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A18FD-E8B9-48A8-BDD9-774BB8D82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53D89-9E97-470C-8F89-E313E311D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8F1E6-ADFC-4DDD-9261-E4446B270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A2D60-530F-4BC8-97D2-C6675CE42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7ED9C-CCD6-4842-B9C9-C747B274A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7902D-70FA-4A37-BD42-366D31A5B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74783-C709-43DB-A8B6-BD2680BDE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41A55-B8F9-47CE-AF59-E9DFCA66B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144DB-111C-4C8A-88B9-7726E82E0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96CD7-04BE-4CFA-A2DD-09722B88D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BBDBC-9320-4FBB-9C87-071417D2B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31FC8-54F4-46BA-A2E8-C4F3C04A1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1BC7D-0860-43E2-AFEF-48FC870E7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9C2F2-4AB2-4072-87A3-1A71D0ADC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4B553-F80F-46ED-AE96-F9AB7CC00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74E17-AFBB-4006-B773-3371B9B03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729C5-8F75-4D3F-A22E-CB22B4529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D68585-CFD1-4C8B-BC01-870B41FBE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91864A-1A18-4284-9670-3B43CAB01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974594-3FE6-4FCF-8BE6-4B6B52EFF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370B5A-2D28-4518-B676-4D78875E9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45B86D-501C-44D0-89D6-82BF2AF27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E1247-9034-4076-9974-82A59D68D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A03E87-4043-4CC5-9438-415E3CE36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40BC20-AB78-470E-9665-820422EF5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5E78D3-BBCD-4547-9339-71CC57ADC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CBD95B-6271-430C-8598-174C78439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217FE6-C423-453F-9285-129BF7235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CDB572-7F1F-472F-8E41-0898523C5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BE6E71-0149-4BA6-A795-4B092B2F3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264E36-3371-4570-9BB5-3783152DB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76598F-28EF-4AA4-905E-671C55D44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A571B4-4170-4D30-9C58-9C1775127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40193-3E09-4EF8-BBC3-376CA184E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2B2FFD-3F71-48F7-8EB9-DA9DFA566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91D1C2-E81E-414C-BC1C-7256D9DE1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D3D930-7A26-4628-8C6A-6D6777F9D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DFE445-7877-4A82-8031-C0370F751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CD1359-20D9-4D71-9367-6ABC71807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0CF7CA-815A-455C-8F90-B88086CE2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7EEE1E-7181-4CB6-9635-2452E8222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480F07-1594-4B72-8B4A-DD4EB72FF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6EC515-DFE0-42E7-8ED6-62F937A51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289F5-412E-4AEC-A9AA-D5A8E065F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362DB-61E8-43A2-95A8-489840305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B8C22-ECA8-4740-A349-12810518A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8AD0E-75DC-425D-B22D-D5A9C7ABF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32865-71CB-4C1E-BC68-378E9F554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05A59-F1E3-4143-8371-90B56CC3FD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8F5D6-4FB5-446C-8C2B-8466D1DAEC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1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212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13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15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216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18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219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21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222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223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5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226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227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8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9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230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2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5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36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7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8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39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1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242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3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4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245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248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9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0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251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3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254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6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257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8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9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260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1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2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263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4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5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8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269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1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272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4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275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7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278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80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281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2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83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86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287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9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91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292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94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295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6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97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298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0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301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2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3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304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6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307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8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9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310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1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12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313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4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15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316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18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319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0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21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322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3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324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B51D9-8059-4BE7-B884-EF24D4D7AB22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7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388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389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91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392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393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394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5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6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397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398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9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00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401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2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03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404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5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06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407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8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09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410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1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12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413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4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15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416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7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18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419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0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21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422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3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24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425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6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27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428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9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30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431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2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33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434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5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36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437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8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39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440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1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42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443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4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45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446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7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48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449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0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51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452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3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54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455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6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57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458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9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60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1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462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463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4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65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466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7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68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469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0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71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472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3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74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475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6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77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478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9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80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481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2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83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484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5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86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487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8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89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490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91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92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493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94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495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496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497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8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9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0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1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2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3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04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05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506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8B560-6BE0-40C6-A6E4-D50B668C981A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1447920" y="1218960"/>
            <a:ext cx="6192720" cy="205740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8ae"/>
                </a:solidFill>
                <a:latin typeface="Showcard Gothic"/>
              </a:rPr>
              <a:t>The History of Russia until 1917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1828800" y="3886200"/>
            <a:ext cx="5257800" cy="106884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Broadway"/>
              </a:rPr>
              <a:t>By Judy Li and Tara Nguy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" dur="20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Berlin Sans FB Demi"/>
              </a:rPr>
              <a:t>Czar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Comic Sans MS"/>
              </a:rPr>
              <a:t>Czars- emperors, had all control over the government and peop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Comic Sans MS"/>
              </a:rPr>
              <a:t>Czar Ivan IV- ruled during 1500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99"/>
                </a:solidFill>
                <a:latin typeface="Comic Sans MS"/>
              </a:rPr>
              <a:t>Known as “the Terrible”, or “the Awesome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99"/>
                </a:solidFill>
                <a:latin typeface="Comic Sans MS"/>
              </a:rPr>
              <a:t>Used the secret police force to control people’s liv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5" name="" descr=""/>
          <p:cNvPicPr/>
          <p:nvPr/>
        </p:nvPicPr>
        <p:blipFill>
          <a:blip r:embed="rId1"/>
          <a:stretch/>
        </p:blipFill>
        <p:spPr>
          <a:xfrm>
            <a:off x="5029200" y="1828800"/>
            <a:ext cx="310212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6" name="" descr="[serfs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228600" y="2590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99"/>
                </a:solidFill>
                <a:latin typeface="Berlin Sans FB Demi"/>
              </a:rPr>
              <a:t>Serf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4920" y="3505320"/>
            <a:ext cx="8229600" cy="27432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ff"/>
                </a:solidFill>
                <a:latin typeface="Comic Sans MS"/>
              </a:rPr>
              <a:t>Serf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ff"/>
                </a:solidFill>
                <a:latin typeface="Comic Sans MS"/>
              </a:rPr>
              <a:t>farm labor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ff"/>
                </a:solidFill>
                <a:latin typeface="Comic Sans MS"/>
              </a:rPr>
              <a:t>could be bought and sold along with la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ff"/>
                </a:solidFill>
                <a:latin typeface="Comic Sans MS"/>
              </a:rPr>
              <a:t>lived hard liv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ff"/>
                </a:solidFill>
                <a:latin typeface="Comic Sans MS"/>
              </a:rPr>
              <a:t>Worked on the nobles’ palaces and esta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8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8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8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8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xit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39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78">
                                          <p:stCondLst>
                                            <p:cond delay="1822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7" dur="26" fill="hold">
                                          <p:stCondLst>
                                            <p:cond delay="62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" dur="166" fill="hold">
                                          <p:stCondLst>
                                            <p:cond delay="646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xit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57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78">
                                          <p:stCondLst>
                                            <p:cond delay="1822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5" dur="26" fill="hold">
                                          <p:stCondLst>
                                            <p:cond delay="62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6" dur="166" fill="hold">
                                          <p:stCondLst>
                                            <p:cond delay="646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xit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75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78">
                                          <p:stCondLst>
                                            <p:cond delay="1822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3" dur="26" fill="hold">
                                          <p:stCondLst>
                                            <p:cond delay="62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4" dur="166" fill="hold">
                                          <p:stCondLst>
                                            <p:cond delay="646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xit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93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78">
                                          <p:stCondLst>
                                            <p:cond delay="1822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1" dur="26" fill="hold">
                                          <p:stCondLst>
                                            <p:cond delay="62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2" dur="166" fill="hold">
                                          <p:stCondLst>
                                            <p:cond delay="646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exit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11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78">
                                          <p:stCondLst>
                                            <p:cond delay="1822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9" dur="26" fill="hold">
                                          <p:stCondLst>
                                            <p:cond delay="62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0" dur="166" fill="hold">
                                          <p:stCondLst>
                                            <p:cond delay="646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xit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31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78">
                                          <p:stCondLst>
                                            <p:cond delay="1822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9" dur="26" fill="hold">
                                          <p:stCondLst>
                                            <p:cond delay="62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0" dur="166" fill="hold">
                                          <p:stCondLst>
                                            <p:cond delay="646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2209680" y="304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Berlin Sans FB Demi"/>
              </a:rPr>
              <a:t>Winter of 1812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914400" y="2742840"/>
            <a:ext cx="8229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poleon Bonaparte and his French army invades Russi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Cold winter and Russian soldiers forced the French to retrea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1812- Symbol of Russian patriotis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886200" cy="260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3" dur="20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Berlin Sans FB Demi"/>
              </a:rPr>
              <a:t>Chang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Comic Sans MS"/>
              </a:rPr>
              <a:t>1861- Czar Alexander II, known as Czar-Liberator, freed the serf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Comic Sans MS"/>
              </a:rPr>
              <a:t>Russia then began to industrialize-focused more on manufacturing than farm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Comic Sans MS"/>
              </a:rPr>
              <a:t>Educated Russians wanted freedom, equality, and more democracy but the czars ignored th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Century Gothic"/>
              </a:rPr>
              <a:t>World War I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99"/>
                </a:solidFill>
                <a:latin typeface="Comic Sans MS"/>
              </a:rPr>
              <a:t>1914-World War 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99"/>
                </a:solidFill>
                <a:latin typeface="Comic Sans MS"/>
              </a:rPr>
              <a:t>Russian and German soldiers fought against each other in Eastern Europ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99"/>
                </a:solidFill>
                <a:latin typeface="Comic Sans MS"/>
              </a:rPr>
              <a:t>Russia got defeated many tim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99"/>
                </a:solidFill>
                <a:latin typeface="Comic Sans MS"/>
              </a:rPr>
              <a:t>Only a few victor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99"/>
                </a:solidFill>
                <a:latin typeface="Comic Sans MS"/>
              </a:rPr>
              <a:t>Food shortage caused starvation of Russian peop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ff99"/>
                </a:solidFill>
                <a:latin typeface="Century Gothic"/>
              </a:rPr>
              <a:t>Russian Revolu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1917-soldiers, political leaders, and factory workers forced Czar Nicholas II to give up thro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Vladimir Lenin leads Russian Revolution and gets all contr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Sets up a communist st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Then moves capital from St. Petersburg to Mosco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"/>
          <p:cNvSpPr txBox="1"/>
          <p:nvPr/>
        </p:nvSpPr>
        <p:spPr>
          <a:xfrm>
            <a:off x="1523880" y="4419720"/>
            <a:ext cx="5410440" cy="22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HE END!!!!!!! :)</a:t>
            </a:r>
            <a:endParaRPr b="0" lang="en-US" sz="4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79" name=""/>
          <p:cNvSpPr txBox="1"/>
          <p:nvPr/>
        </p:nvSpPr>
        <p:spPr>
          <a:xfrm>
            <a:off x="228600" y="0"/>
            <a:ext cx="8658360" cy="24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99"/>
                </a:solidFill>
                <a:latin typeface="Arial Black"/>
              </a:rPr>
              <a:t>It's always tougher in Russia!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3399"/>
              </a:solidFill>
              <a:latin typeface="Arial Black"/>
              <a:ea typeface="Arial Black"/>
            </a:endParaRPr>
          </a:p>
        </p:txBody>
      </p:sp>
      <p:pic>
        <p:nvPicPr>
          <p:cNvPr id="580" name="" descr=""/>
          <p:cNvPicPr/>
          <p:nvPr/>
        </p:nvPicPr>
        <p:blipFill>
          <a:blip r:embed="rId1"/>
          <a:stretch/>
        </p:blipFill>
        <p:spPr>
          <a:xfrm>
            <a:off x="3124080" y="1981080"/>
            <a:ext cx="3009960" cy="22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73" dur="500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9" dur="2000" fill="hold"/>
                                        <p:tgtEl>
                                          <p:spTgt spid="58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4T14:53:05Z</dcterms:created>
  <dc:creator> </dc:creator>
  <dc:description/>
  <dc:language>en-US</dc:language>
  <cp:lastModifiedBy> </cp:lastModifiedBy>
  <dcterms:modified xsi:type="dcterms:W3CDTF">2010-12-20T14:33:13Z</dcterms:modified>
  <cp:revision>7</cp:revision>
  <dc:subject/>
  <dc:title>The History of Russia until 1917</dc:title>
</cp:coreProperties>
</file>